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3E165-034F-410A-B2E0-618328091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5F3BE-CB69-4C60-8EE5-AF6CB52B3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DBD1D-4D8C-4FB7-A605-137B0DF12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F86DF-86AA-4364-902C-6D92A71C6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71B80-9B1B-461E-A1E6-FDA38E90F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725C4-67A1-40FB-9BAB-81A03B6C3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B1236-69B2-4151-8589-E302BA3FC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9357C-E006-453E-89D1-811EF0ED0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70712-FA8C-41BD-93E8-150E1B956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93912-4054-4BD6-B693-2DDA62C43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554CC-72A9-4E30-921B-893DBC722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ABA4C-608D-4BA2-BCA7-42C687193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30964-0734-4D32-A9E8-2D4E140F0F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savedarfur.org/pages/voices-for-darfur-video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funtrivia.com/playquiz/quiz2560151d4fc10.html" TargetMode="External"/><Relationship Id="rId2" Type="http://schemas.openxmlformats.org/officeDocument/2006/relationships/hyperlink" Target="http://www.genocideintervention.net/" TargetMode="External"/><Relationship Id="rId3" Type="http://schemas.openxmlformats.org/officeDocument/2006/relationships/hyperlink" Target="http://www.24hoursfordarfur.org/main.php" TargetMode="External"/><Relationship Id="rId4" Type="http://schemas.openxmlformats.org/officeDocument/2006/relationships/hyperlink" Target="http://www.thewe.cc/contents/more/archive/darfur_sudan.html" TargetMode="External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857680" cy="38098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2388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ocide in Darfu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Keeghan Pierce and Rikkie Cleet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Backgrou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Since Sudan’s independence in the 1950’s, there have been numerous insurgencies against the central govern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In southern Sudan, the government and the Sudan People’s Liberation Movement signed a Comprehensive Peace Agreement to end a twenty-year-old civil war on January 9, 200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Periodic tensions between the black African tribes and the Arabs settled in the area can be traced back to the 1930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During the current violence, a United Nations fact-finding mission discovered that many ethnically African villages had been targeted for destruction, while nearby Arabic villages remained unscath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These facts demonstrate that both the victims and the perpetrators subjectively viewed the black African tribes as a distinct group, further affirming their group status under the Genocide Conven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Because of all the genocide in Darfur the area as a whole canstantly lives in fear of if they will live or die that day.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the people are going through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men in Darfur are being rapped and bea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ong Children are being used as labor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n are also being used as labor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Arial"/>
              </a:rPr>
              <a:t>Statist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Arial"/>
              </a:rPr>
              <a:t>Over the past six years, over 400,000 Darfurian civilians have been kille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Arial"/>
              </a:rPr>
              <a:t>97% of these killings have been against innocent civilians and executed by militia groups instructed by the govern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666520" y="0"/>
            <a:ext cx="3048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591336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map shows were the trouble regions are in the country of Sud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914400"/>
            <a:ext cx="899172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de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avedarfur.org/pages/voices-for-darfur-vide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Darfur_02.jpg Genocide image by checkmate388"/>
          <p:cNvPicPr/>
          <p:nvPr/>
        </p:nvPicPr>
        <p:blipFill>
          <a:blip r:embed="rId2"/>
          <a:stretch/>
        </p:blipFill>
        <p:spPr>
          <a:xfrm>
            <a:off x="4495680" y="2743200"/>
            <a:ext cx="3981600" cy="398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you can do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are many ways you can help the caus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can do small things like making small don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bigger things like visiting Darfur and helping the people in the refugee camp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re you can find more info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much do you know?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funtrivia.com/playquiz/quiz2560151d4fc10.html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Quiz Lin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re you can go to help!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genocideintervention.net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what you can 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24hoursfordarfur.org/main.php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www.thewe.cc/contents/more/archive/darfur_sudan.html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rks si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genocideintervention.ne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genocideintervention.net/educate/darfu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24hoursfordarfur.org/main.php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en.wikipedia.org/wiki/War_in_Darfur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google.com/imgres?imgurl=http://darfursf.org/content/wp-content/uploads/2009/05/Darfur_map-278x300.png&amp;imgrefurl=http://darfursf.org/content/about/&amp;usg=__oBwWFnAawTOcTLU2QhqJ3sqrFfY=&amp;h=300&amp;w=278&amp;sz=111&amp;hl=en&amp;start=14&amp;um=1&amp;itbs=1&amp;tbnid=FLDs7YzJJytSvM:&amp;tbnh=116&amp;tbnw=107&amp;prev=/images%3Fq%3Dmap%2Bof%2Bdarfur%2Bsudan%2Band%2Bgenocide%26um%3D1%26hl%3Den%26safe%3Dstrict%26sa%3DG%26rlz%3D1T4GGLJ_enUS287US295%26tbs%3Disch:1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amnestyusa.org/darfur/darfur-history/page.do?id=1351103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thewe.cc/contents/more/archive/darfur_sudan.htm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dosomething.org/tipsandtools/11-facts-about-darfu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0T15:39:42Z</dcterms:created>
  <dc:creator>ws12067</dc:creator>
  <dc:description/>
  <dc:language>en-US</dc:language>
  <cp:lastModifiedBy>ws12067</cp:lastModifiedBy>
  <dcterms:modified xsi:type="dcterms:W3CDTF">2010-05-21T14:34:48Z</dcterms:modified>
  <cp:revision>3</cp:revision>
  <dc:subject/>
  <dc:title>Genocide in Darfur</dc:title>
</cp:coreProperties>
</file>